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B3F-9C78-4010-BF89-976B808C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AB8-3A38-4A95-A38A-5C63D0F7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D67-08AA-4C22-A094-0A86A1A8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15B-6584-4238-A656-C14053FF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4FA-46DF-4A60-9148-BBA35FA6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B87-6174-486C-B97B-44DF90FB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B19-DED9-4D79-A2FA-79FB44C4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626-25A8-4B18-835B-6FBF8770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52F-97F0-4C0F-970B-A4F768EE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8BB-6B91-48B2-806F-0A739F2D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FAA-56B6-430C-BF00-E0AE2D8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763-1428-42F1-BBF0-DE16D0C5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CAE1-1204-47AB-9B51-8715044FA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4/Flag_of_Israel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egory:Landforms_of_Israel" TargetMode="External"/><Relationship Id="rId2" Type="http://schemas.openxmlformats.org/officeDocument/2006/relationships/hyperlink" Target="http://www.indexmundi.com/israel/natural_resources.html" TargetMode="External"/><Relationship Id="rId3" Type="http://schemas.openxmlformats.org/officeDocument/2006/relationships/hyperlink" Target="http://www.science.co.il/Israel-Climate.asp" TargetMode="External"/><Relationship Id="rId4" Type="http://schemas.openxmlformats.org/officeDocument/2006/relationships/hyperlink" Target="http://www.jewishsoftware.com/products/Israel_Images_Israel_Wildlife_846.asp?bhcd2=1235054915" TargetMode="External"/><Relationship Id="rId5" Type="http://schemas.openxmlformats.org/officeDocument/2006/relationships/hyperlink" Target="http://www.tau.ac.il/~ibs/album/index3.htm" TargetMode="External"/><Relationship Id="rId6" Type="http://schemas.openxmlformats.org/officeDocument/2006/relationships/hyperlink" Target="http://en.wikipedia.org/wiki/Israel" TargetMode="External"/><Relationship Id="rId7" Type="http://schemas.openxmlformats.org/officeDocument/2006/relationships/hyperlink" Target="http://en.wikipedia.org/wiki/Economy_of_Israel" TargetMode="External"/><Relationship Id="rId8" Type="http://schemas.openxmlformats.org/officeDocument/2006/relationships/hyperlink" Target="http://www.mfa.gov.il/MFA/Facts+About+Israel/Israel+in+Maps/Literacy+rate.htm" TargetMode="External"/><Relationship Id="rId9" Type="http://schemas.openxmlformats.org/officeDocument/2006/relationships/hyperlink" Target="http://www.travelmania.com/facts.asp" TargetMode="External"/><Relationship Id="rId10" Type="http://schemas.openxmlformats.org/officeDocument/2006/relationships/hyperlink" Target="http://www.asiarooms.com/travel-guide/israel/culture-of-israel/architecture-in-israel.html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·Israel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172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eg and/or Russ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le:Flag of Israel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600200"/>
            <a:ext cx="5867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86440" y="0"/>
            <a:ext cx="405756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·Places to Visit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ist At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di -Natur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eshah - Cave 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mran - Monas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t History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u Ghosh – Crusader </a:t>
            </a:r>
            <a:r>
              <a:rPr b="0" lang="en-US" sz="2400" spc="-1" strike="noStrike">
                <a:solidFill>
                  <a:srgbClr val="fc04a3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 George’s Monas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543800" y="5297400"/>
            <a:ext cx="16002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·Work cited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Category:Landforms_of_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ndexmundi.com/israel/natural_resources.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cience.co.il/Israel-Climate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jewishsoftware.com/products/Israel_Images_Israel_Wildlife_846.asp?bhcd2=123505491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tau.ac.il/~ibs/album/index3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hostednews/afp/article/ALeqM5j7CKrMXz3HHXSvXXLwpJWeo3Luh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olitics_of_Israe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aps.howstuffworks.com/maps-of-israel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en.wikipedia.org/wiki/Isra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en.wikipedia.org/wiki/Economy_of_Isra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mfa.gov.il/MFA/Facts+About+Israel/Israel+in+Maps/Literacy+rate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travelmania.com/facts.as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asiarooms.com/travel-guide/israel/culture-of-israel/architecture-in-israel.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lanetware.com/top-tourist-attractions/israel-isr.ht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THE LAND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ert Northeast of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Fo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hdod Sand D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an Penins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hal Tze’eli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8f8f8"/>
                </a:solidFill>
                <a:uFillTx/>
                <a:latin typeface="Arial"/>
              </a:rPr>
              <a:t>·THE LAND… PART 2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2%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ly Under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CLIMATE &amp; VEGETATION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and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9 ° F in the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arts it snows a lot others not so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ts of different animal types from deer and fishes to things like goats and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ge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ts of different types of pl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·Government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raeli President Shimon P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oral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Expect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 M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1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,28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Events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Ev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president is tal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olitical lea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the new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us was bor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us was crucified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Economy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world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s in diamond cu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elry, integ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circu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ing machiner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elecom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c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Ne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kel (1 US Dollar = 4.1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4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Israeli New Shek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Culture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ual and comfortable. dark suit for 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cktail dress for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s 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b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ny other languages like French and 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Culture+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(s) Pract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a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s because it has total freedom of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/Build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like buildings in New York and 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5:41Z</dcterms:created>
  <dc:creator>gregoryaadams</dc:creator>
  <dc:description/>
  <dc:language>en-US</dc:language>
  <cp:lastModifiedBy>russelljtasker</cp:lastModifiedBy>
  <dcterms:modified xsi:type="dcterms:W3CDTF">2009-02-26T17:13:26Z</dcterms:modified>
  <cp:revision>10</cp:revision>
  <dc:subject/>
  <dc:title>Israel</dc:title>
</cp:coreProperties>
</file>